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F4B-7C7E-4BB8-A3DC-3CBED2E9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178-BA02-48D1-B591-C98B251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AF5-23F4-4558-9F07-BD87692A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312-DB34-4504-B9B5-7BE3A2B4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D89-F34F-4069-A163-035E1753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199-C569-4CFA-BB39-195C8432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D305-1602-4013-983D-D9AECE1B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EAD-659E-40B1-8ADD-75C94280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FD2E-7F23-4406-B995-D2E603E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5E54-F4B5-4872-A544-937DF631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8A1-0ECB-401D-8F41-FDB77D7A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8B9-F778-42EA-8304-B44EDAA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F9F5-59F1-4741-87A3-558D59A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25CE-C241-4491-A3E8-A033D42A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8555-0D44-449F-9F2A-D6D21AC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B650-3760-4A84-BBDC-432D6F34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857F-F8BE-4946-8A08-B056F24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5CC-5208-44D8-841B-588FA59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09F-15B0-4859-9883-109120A6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339-BEA9-4BF3-AD77-529E4135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937-195D-44CB-8627-CF40632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31F-13D8-4ACF-B4E6-9EEB45CC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7FE-E396-418F-A66A-B73B46AF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890-F542-4E68-92B0-CD0957B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FF9-A6BB-47A3-A860-3FB526991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2518-2F08-48C0-B2A0-380BAB721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47280" y="1557360"/>
            <a:ext cx="6635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Tuneles y VP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835280" y="3357360"/>
            <a:ext cx="586080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VPN usando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2852640"/>
            <a:ext cx="62262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propietario Mikro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 frames de ethernet dentro de paquetes de IP protocolo 4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EoIP soporta todas las funcionalidades de cualquier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 EoIP puede correr sobre cualquier conexión que soport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mero máximo de túneles de EoIP es de 655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se de túnel Eo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616360" cy="49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oIP y “Bridgi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 Interf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oIP puede ser “bridgeada” con cualquier otra interfase EoIP o Interfase Eth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o principal de túneles EoIP es para transparentemente hacer bridge de redes remo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EoIP no provee encriptación de datos, por tal manera debe correr sobre un túnel encriptado, ejemplo PPTP, L2TP o PPPoE, si es requerid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túnel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PPP debe esta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con “/system package pr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a la misma versión del paquete ppp-2.x.x.npk y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configuraciones de túneles PPP son similares e involucran un set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dores de Acceso (Server PPTP o PPPo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 PPTP o PPP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ntrador de Acces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es usado para permitir a usuarios remotos establecer conexiones de túneles encriptados al ruteador y recibir información de configuración del h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, dirección de red, puerta de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ones del servidor de nombr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up incluye configu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IP DNS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pool de IP]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file P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ce del Server PP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PP (logins y pass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laneando el direccionamiento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ones PPTP son típicamente conexiones punto a punto, las cuales usan direcciones de 32 bits para la dirección IP. La dirección de red es la dirección en el peer rem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desea , el cliente puede ser asignado con una IP real (rute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Server=pptp-in1, address=10.1.0.1/32, network=10.2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=pptp-out1, address=10.2.0.1/32, network=10.1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ool de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ol de IP Pool es usado para especificar un rango de direcciones IP las cuales seran entregadas a los clientes de PPTP, PPPoE, DHCP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pool add name ppp-hosts address=10.2.0.1-10.2.0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s la facilidad de asignar direcciones IP especificas a ciertos clientes si tu lo especificas bajo /ppp secret, o en un RADIUS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a el profile de default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ernativamente, se puede hacer un profile especial para conexiones entrantes d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add name=pptp use-encryption=yes require-encryption=yes, local-address=10.1.0.1 remote-address=pptp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ogins y passwords P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registro ppp secret para usuarios que requieren entrar vía ppt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ose password=jos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ppp secret add name=juan password=hola remote-address=10.2.0.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 ‘jose’ ingresa via pptp una dirección le será asignada ,desde el pool cr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‘juan’ ingresa via pptp , le será asignada la dirección 10.2.0.2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ilite el server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set enabled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un profile diferente , si es que lo ha cre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as conexiones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eneficios de VPN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ones seguras entre redes privadas corporativas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pu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eas ren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laces inalamb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corporativos (correo, servidores corporativos, impresoras) pueden ser accedidas de manera segura por usuarios que tengan los permisos necesarios, desde el exterior (viajando, en cas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cliente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e el profile de default de pp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ppp profile set defaul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se-encryption=yes require-encryption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un cliente PP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tp-client add connect-to=192.168.1.1 user=jose password=jos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ruteo y firewall, porque el puerto 1723 de TCP es usado para hacer las conexiones entre cliente y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el protocolo 47 (GRE) pasa a travé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egúrate que las direcciones IP están especificadas para el lado server y cliente en los profiles de PPP o en ppp secr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os lo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Server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server add service-name=office_w interface=eth-local authentication=mschap2 one-session-per-host=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a las conexiones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nterface pppoe-serve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a una interfase cliente PPPo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add interface=ether1 user=joe password=joe3 service-name=office_w allow=mscha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conecta, la interfase pppoe esta en Estado Activo (Running) y el comando monitor nos muestra el status de la interf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pppoe-client&gt; monitor pppoe-out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seguro que el nombre del servicio esta especificado correctamente y concuerda con el del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lo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lace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989000"/>
            <a:ext cx="1655640" cy="1224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4221000"/>
            <a:ext cx="3025800" cy="18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4653000"/>
            <a:ext cx="201600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56360" y="1951200"/>
            <a:ext cx="1825560" cy="1614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7640" y="1557360"/>
            <a:ext cx="2643120" cy="2070000"/>
          </a:xfrm>
          <a:custGeom>
            <a:avLst/>
            <a:gdLst/>
            <a:ahLst/>
            <a:rect l="l" t="t" r="r" b="b"/>
            <a:pathLst>
              <a:path w="1665" h="1304">
                <a:moveTo>
                  <a:pt x="316" y="455"/>
                </a:moveTo>
                <a:cubicBezTo>
                  <a:pt x="224" y="486"/>
                  <a:pt x="125" y="472"/>
                  <a:pt x="33" y="506"/>
                </a:cubicBezTo>
                <a:cubicBezTo>
                  <a:pt x="12" y="569"/>
                  <a:pt x="1" y="621"/>
                  <a:pt x="33" y="687"/>
                </a:cubicBezTo>
                <a:cubicBezTo>
                  <a:pt x="38" y="698"/>
                  <a:pt x="48" y="707"/>
                  <a:pt x="53" y="718"/>
                </a:cubicBezTo>
                <a:cubicBezTo>
                  <a:pt x="61" y="737"/>
                  <a:pt x="73" y="778"/>
                  <a:pt x="73" y="778"/>
                </a:cubicBezTo>
                <a:cubicBezTo>
                  <a:pt x="54" y="838"/>
                  <a:pt x="68" y="799"/>
                  <a:pt x="23" y="890"/>
                </a:cubicBezTo>
                <a:cubicBezTo>
                  <a:pt x="14" y="909"/>
                  <a:pt x="3" y="950"/>
                  <a:pt x="3" y="950"/>
                </a:cubicBezTo>
                <a:cubicBezTo>
                  <a:pt x="26" y="1043"/>
                  <a:pt x="0" y="1016"/>
                  <a:pt x="53" y="1051"/>
                </a:cubicBezTo>
                <a:cubicBezTo>
                  <a:pt x="119" y="1142"/>
                  <a:pt x="230" y="1170"/>
                  <a:pt x="336" y="1183"/>
                </a:cubicBezTo>
                <a:cubicBezTo>
                  <a:pt x="407" y="1174"/>
                  <a:pt x="434" y="1177"/>
                  <a:pt x="488" y="1142"/>
                </a:cubicBezTo>
                <a:cubicBezTo>
                  <a:pt x="521" y="1093"/>
                  <a:pt x="561" y="1053"/>
                  <a:pt x="609" y="1021"/>
                </a:cubicBezTo>
                <a:cubicBezTo>
                  <a:pt x="660" y="1038"/>
                  <a:pt x="710" y="1061"/>
                  <a:pt x="760" y="1082"/>
                </a:cubicBezTo>
                <a:cubicBezTo>
                  <a:pt x="790" y="1111"/>
                  <a:pt x="811" y="1129"/>
                  <a:pt x="851" y="1142"/>
                </a:cubicBezTo>
                <a:cubicBezTo>
                  <a:pt x="888" y="1179"/>
                  <a:pt x="968" y="1274"/>
                  <a:pt x="1013" y="1304"/>
                </a:cubicBezTo>
                <a:cubicBezTo>
                  <a:pt x="1135" y="1284"/>
                  <a:pt x="1272" y="1265"/>
                  <a:pt x="1336" y="1142"/>
                </a:cubicBezTo>
                <a:cubicBezTo>
                  <a:pt x="1356" y="1103"/>
                  <a:pt x="1360" y="1053"/>
                  <a:pt x="1367" y="1011"/>
                </a:cubicBezTo>
                <a:cubicBezTo>
                  <a:pt x="1370" y="964"/>
                  <a:pt x="1369" y="916"/>
                  <a:pt x="1377" y="869"/>
                </a:cubicBezTo>
                <a:cubicBezTo>
                  <a:pt x="1380" y="854"/>
                  <a:pt x="1418" y="816"/>
                  <a:pt x="1427" y="809"/>
                </a:cubicBezTo>
                <a:cubicBezTo>
                  <a:pt x="1489" y="761"/>
                  <a:pt x="1561" y="742"/>
                  <a:pt x="1630" y="708"/>
                </a:cubicBezTo>
                <a:cubicBezTo>
                  <a:pt x="1637" y="686"/>
                  <a:pt x="1656" y="669"/>
                  <a:pt x="1660" y="647"/>
                </a:cubicBezTo>
                <a:cubicBezTo>
                  <a:pt x="1665" y="620"/>
                  <a:pt x="1623" y="560"/>
                  <a:pt x="1609" y="536"/>
                </a:cubicBezTo>
                <a:cubicBezTo>
                  <a:pt x="1570" y="469"/>
                  <a:pt x="1533" y="409"/>
                  <a:pt x="1478" y="354"/>
                </a:cubicBezTo>
                <a:cubicBezTo>
                  <a:pt x="1475" y="344"/>
                  <a:pt x="1469" y="335"/>
                  <a:pt x="1468" y="324"/>
                </a:cubicBezTo>
                <a:cubicBezTo>
                  <a:pt x="1462" y="250"/>
                  <a:pt x="1469" y="175"/>
                  <a:pt x="1458" y="101"/>
                </a:cubicBezTo>
                <a:cubicBezTo>
                  <a:pt x="1452" y="65"/>
                  <a:pt x="1423" y="58"/>
                  <a:pt x="1397" y="51"/>
                </a:cubicBezTo>
                <a:cubicBezTo>
                  <a:pt x="1339" y="35"/>
                  <a:pt x="1283" y="14"/>
                  <a:pt x="1225" y="0"/>
                </a:cubicBezTo>
                <a:cubicBezTo>
                  <a:pt x="1154" y="3"/>
                  <a:pt x="1083" y="1"/>
                  <a:pt x="1013" y="10"/>
                </a:cubicBezTo>
                <a:cubicBezTo>
                  <a:pt x="1003" y="11"/>
                  <a:pt x="1001" y="26"/>
                  <a:pt x="993" y="31"/>
                </a:cubicBezTo>
                <a:cubicBezTo>
                  <a:pt x="984" y="37"/>
                  <a:pt x="973" y="38"/>
                  <a:pt x="963" y="41"/>
                </a:cubicBezTo>
                <a:cubicBezTo>
                  <a:pt x="947" y="56"/>
                  <a:pt x="925" y="64"/>
                  <a:pt x="912" y="81"/>
                </a:cubicBezTo>
                <a:cubicBezTo>
                  <a:pt x="905" y="89"/>
                  <a:pt x="907" y="102"/>
                  <a:pt x="902" y="111"/>
                </a:cubicBezTo>
                <a:cubicBezTo>
                  <a:pt x="891" y="130"/>
                  <a:pt x="868" y="141"/>
                  <a:pt x="851" y="152"/>
                </a:cubicBezTo>
                <a:cubicBezTo>
                  <a:pt x="824" y="192"/>
                  <a:pt x="806" y="191"/>
                  <a:pt x="760" y="202"/>
                </a:cubicBezTo>
                <a:cubicBezTo>
                  <a:pt x="744" y="200"/>
                  <a:pt x="635" y="190"/>
                  <a:pt x="609" y="182"/>
                </a:cubicBezTo>
                <a:cubicBezTo>
                  <a:pt x="594" y="178"/>
                  <a:pt x="582" y="167"/>
                  <a:pt x="568" y="162"/>
                </a:cubicBezTo>
                <a:cubicBezTo>
                  <a:pt x="552" y="157"/>
                  <a:pt x="534" y="156"/>
                  <a:pt x="518" y="152"/>
                </a:cubicBezTo>
                <a:cubicBezTo>
                  <a:pt x="494" y="146"/>
                  <a:pt x="471" y="139"/>
                  <a:pt x="447" y="132"/>
                </a:cubicBezTo>
                <a:cubicBezTo>
                  <a:pt x="427" y="126"/>
                  <a:pt x="387" y="111"/>
                  <a:pt x="387" y="111"/>
                </a:cubicBezTo>
                <a:cubicBezTo>
                  <a:pt x="353" y="115"/>
                  <a:pt x="318" y="112"/>
                  <a:pt x="286" y="122"/>
                </a:cubicBezTo>
                <a:cubicBezTo>
                  <a:pt x="263" y="129"/>
                  <a:pt x="225" y="162"/>
                  <a:pt x="225" y="162"/>
                </a:cubicBezTo>
                <a:cubicBezTo>
                  <a:pt x="208" y="212"/>
                  <a:pt x="180" y="223"/>
                  <a:pt x="205" y="283"/>
                </a:cubicBezTo>
                <a:cubicBezTo>
                  <a:pt x="214" y="305"/>
                  <a:pt x="237" y="321"/>
                  <a:pt x="245" y="344"/>
                </a:cubicBezTo>
                <a:cubicBezTo>
                  <a:pt x="252" y="364"/>
                  <a:pt x="265" y="404"/>
                  <a:pt x="265" y="404"/>
                </a:cubicBezTo>
                <a:cubicBezTo>
                  <a:pt x="255" y="414"/>
                  <a:pt x="227" y="441"/>
                  <a:pt x="225" y="455"/>
                </a:cubicBezTo>
                <a:cubicBezTo>
                  <a:pt x="223" y="465"/>
                  <a:pt x="235" y="485"/>
                  <a:pt x="235" y="485"/>
                </a:cubicBez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76720" y="2492280"/>
            <a:ext cx="200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cxnSp>
        <p:nvCxnSpPr>
          <p:cNvPr id="223" name=""/>
          <p:cNvCxnSpPr>
            <a:stCxn id="218" idx="7"/>
            <a:endCxn id="221" idx="0"/>
          </p:cNvCxnSpPr>
          <p:nvPr/>
        </p:nvCxnSpPr>
        <p:spPr>
          <a:xfrm flipV="1">
            <a:off x="3338280" y="3434760"/>
            <a:ext cx="183240" cy="1060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25" idx="3"/>
            <a:endCxn id="219" idx="2"/>
          </p:cNvCxnSpPr>
          <p:nvPr/>
        </p:nvCxnSpPr>
        <p:spPr>
          <a:xfrm>
            <a:off x="3995640" y="4700160"/>
            <a:ext cx="1153440" cy="602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7" idx="6"/>
            <a:endCxn id="221" idx="1"/>
          </p:cNvCxnSpPr>
          <p:nvPr/>
        </p:nvCxnSpPr>
        <p:spPr>
          <a:xfrm>
            <a:off x="2050920" y="2601720"/>
            <a:ext cx="105336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0" idx="2"/>
            <a:endCxn id="221" idx="2"/>
          </p:cNvCxnSpPr>
          <p:nvPr/>
        </p:nvCxnSpPr>
        <p:spPr>
          <a:xfrm flipH="1" flipV="1">
            <a:off x="5574600" y="2680920"/>
            <a:ext cx="1494360" cy="954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2916360" y="4437000"/>
            <a:ext cx="1079280" cy="52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teador Rout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59280" y="515772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2492280"/>
            <a:ext cx="504720" cy="376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2781360"/>
            <a:ext cx="1019160" cy="1584360"/>
          </a:xfrm>
          <a:custGeom>
            <a:avLst/>
            <a:gdLst/>
            <a:ahLst/>
            <a:rect l="l" t="t" r="r" b="b"/>
            <a:pathLst>
              <a:path w="642" h="998">
                <a:moveTo>
                  <a:pt x="0" y="0"/>
                </a:moveTo>
                <a:cubicBezTo>
                  <a:pt x="223" y="30"/>
                  <a:pt x="446" y="61"/>
                  <a:pt x="544" y="227"/>
                </a:cubicBezTo>
                <a:cubicBezTo>
                  <a:pt x="642" y="393"/>
                  <a:pt x="582" y="862"/>
                  <a:pt x="590" y="998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4881600"/>
            <a:ext cx="1150920" cy="419040"/>
          </a:xfrm>
          <a:custGeom>
            <a:avLst/>
            <a:gdLst/>
            <a:ahLst/>
            <a:rect l="l" t="t" r="r" b="b"/>
            <a:pathLst>
              <a:path w="725" h="264">
                <a:moveTo>
                  <a:pt x="0" y="38"/>
                </a:moveTo>
                <a:cubicBezTo>
                  <a:pt x="121" y="19"/>
                  <a:pt x="242" y="0"/>
                  <a:pt x="363" y="38"/>
                </a:cubicBezTo>
                <a:cubicBezTo>
                  <a:pt x="484" y="76"/>
                  <a:pt x="604" y="170"/>
                  <a:pt x="725" y="264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2938320"/>
            <a:ext cx="2663640" cy="1498680"/>
          </a:xfrm>
          <a:custGeom>
            <a:avLst/>
            <a:gdLst/>
            <a:ahLst/>
            <a:rect l="l" t="t" r="r" b="b"/>
            <a:pathLst>
              <a:path w="1678" h="944">
                <a:moveTo>
                  <a:pt x="0" y="944"/>
                </a:moveTo>
                <a:cubicBezTo>
                  <a:pt x="177" y="600"/>
                  <a:pt x="355" y="256"/>
                  <a:pt x="635" y="128"/>
                </a:cubicBezTo>
                <a:cubicBezTo>
                  <a:pt x="915" y="0"/>
                  <a:pt x="1296" y="86"/>
                  <a:pt x="1678" y="173"/>
                </a:cubicBezTo>
              </a:path>
            </a:pathLst>
          </a:custGeom>
          <a:noFill/>
          <a:ln w="63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cnologías VP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TP con encriptación de 128bit M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2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úneles permanentes entre rute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ntrador de acceso PPTP para muchos clientes (estaciones de trabajo windows) y clientes mobiles (trabajo desde casa o viaja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úneles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simple para crear un tunel encapsulando paquetes de IP en paquetes IP y mandándolos sobre la red a otro rute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implementa tuneles  IPIP de acuerdo a la norma RFC 20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protocolo 4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Túnel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583080" cy="2186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6364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378936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4365720"/>
            <a:ext cx="2592360" cy="143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4"/>
            <a:endCxn id="240" idx="2"/>
          </p:cNvCxnSpPr>
          <p:nvPr/>
        </p:nvCxnSpPr>
        <p:spPr>
          <a:xfrm>
            <a:off x="3203640" y="4149360"/>
            <a:ext cx="2737080" cy="1080"/>
          </a:xfrm>
          <a:prstGeom prst="straightConnector1">
            <a:avLst/>
          </a:prstGeom>
          <a:ln w="50760">
            <a:solidFill>
              <a:srgbClr val="ff9900"/>
            </a:solidFill>
            <a:miter/>
          </a:ln>
        </p:spPr>
      </p:cxnSp>
      <p:sp>
        <p:nvSpPr>
          <p:cNvPr id="244" name=""/>
          <p:cNvSpPr/>
          <p:nvPr/>
        </p:nvSpPr>
        <p:spPr>
          <a:xfrm>
            <a:off x="1258920" y="33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335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68.2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1164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una interface IP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518472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direccione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IP son añadidas a las interfaces del tu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direcciones de 30 bits para ahorrar espacio de direccionamie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0 y 10.1.6.2/30 desde la red 10.1.6.0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usar direccionamiento de punto a punto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6.1/32, red 10.1.7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.1.7.1/32, red 10.1.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ciones IP en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00720" cy="434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</cp:lastModifiedBy>
  <dcterms:modified xsi:type="dcterms:W3CDTF">2006-03-03T21:40:08Z</dcterms:modified>
  <cp:revision>51</cp:revision>
  <dc:subject/>
  <dc:title>OSPF Configuration</dc:title>
</cp:coreProperties>
</file>